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.png" ContentType="image/png"/>
  <Override PartName="/ppt/media/train.wav" ContentType="audio/x-wav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37960" y="763200"/>
            <a:ext cx="548460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0"/>
            <a:ext cx="3363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398840" y="0"/>
            <a:ext cx="3364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B996C-E1BF-48CC-ADD1-9232A7E54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08A2F-9082-4A48-83CF-2FFF92709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5D007-E96E-40A6-B42A-C7AA0B118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23435-F0FA-4D3B-95FA-1E7FD30C7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B245C-D402-4C05-88D6-BFCB33C8D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138320" y="763560"/>
            <a:ext cx="54943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52AE6-D0B9-46D2-BBDB-DE31F30D4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9AF80-2D53-420A-AEAA-E10ACAD67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138320" y="763560"/>
            <a:ext cx="54943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7BB37-EE89-44B6-8752-823AC9F69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10C17-D30A-4D07-B71F-8D3AF3088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138320" y="763560"/>
            <a:ext cx="54943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90C89-88E4-4714-97FA-3330EAD73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2AB28-CE64-40E4-9926-37DF5E45B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416E5-889A-4879-A479-FE712FD66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22C29-F5E3-4CBA-B419-641F58CAA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"/>
          <p:cNvSpPr/>
          <p:nvPr/>
        </p:nvSpPr>
        <p:spPr>
          <a:xfrm>
            <a:off x="1373040" y="763560"/>
            <a:ext cx="5016600" cy="376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31554-94F3-4889-B814-3BB360D7A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FB401-C211-4C45-8273-1F6AC75BB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AB6AC-5EA3-4571-9D87-488316214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16600" cy="3762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856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C1516-5204-42B1-B9AD-3F3F96D62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E1E7F-1137-4D64-AEE2-E23D6EF36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79DDB-4BA4-4F61-A7D8-202100D95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A919A-28ED-440C-892C-15186922D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52B7F-31A7-4FEC-85A9-9A630F1D7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35A72-E758-4E31-8AE3-BB2E25F1D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BC112-34FC-41ED-BF97-81858F4DE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A7155-5AC4-4EF2-BEBA-0AE49F9A7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8CDBD-BE90-4651-9769-706A7501C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542BA-6ECE-4B35-A637-85FADF9F0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F67AF-5454-440B-A7D4-3277657D2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8D731-24B9-4569-9A64-3E706FE9C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138320" y="763560"/>
            <a:ext cx="54943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B9209-3008-4217-AAEC-195AD06C1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34A6D-9FB5-4783-B39B-A5D8F95F3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CE139-2A42-4429-B6DA-ABA2AAB96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439884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C06BB-BB6C-4E8E-851C-E9BFE1921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138320" y="763560"/>
            <a:ext cx="54943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A590-C84E-4DAD-94E3-E90D0BFA9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128840"/>
            <a:ext cx="90597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0C5E-3425-47E8-9B92-D62ECBF64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E238-C392-4293-9453-1DDF7C6AE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12884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12884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128840"/>
            <a:ext cx="291708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10CD-1B63-4933-B7B4-B2C64B91BF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6163-ED62-40C3-B193-B13E46AF8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E987-F06F-45CE-A662-B55647486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516B-4387-4D9C-975D-95084FCB7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8A1C-D40F-4EB5-827C-B5C64389D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3624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1866-70AD-434B-9516-E2283022D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17E6-BE01-42D7-8724-0BBFEFE6F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12884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7F6D-E23C-4423-AB46-A429631BB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128840"/>
            <a:ext cx="9059760" cy="21556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060B-1041-4C30-BFFC-5B2D8EA8C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3624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670800"/>
            <a:ext cx="2338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670800"/>
            <a:ext cx="3186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670440"/>
            <a:ext cx="233712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C6645-3F67-4D40-AD83-6B0F5BDAE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tch.thirteen.org/video/1469558140/" TargetMode="External"/><Relationship Id="rId2" Type="http://schemas.openxmlformats.org/officeDocument/2006/relationships/hyperlink" Target="http://www.youtube.com/watch?v=WDexKkzKYws" TargetMode="External"/><Relationship Id="rId3" Type="http://schemas.openxmlformats.org/officeDocument/2006/relationships/audio" Target="../media/trai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nit%20Lesson%204-%20Science.doc" TargetMode="External"/><Relationship Id="rId2" Type="http://schemas.openxmlformats.org/officeDocument/2006/relationships/hyperlink" Target="http://www.youtube.com/watch?v=pkjTBgKLFls&amp;NR=1" TargetMode="External"/><Relationship Id="rId3" Type="http://schemas.openxmlformats.org/officeDocument/2006/relationships/audio" Target="../media/trai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nit%20Lesson%205-%20Art.doc" TargetMode="External"/><Relationship Id="rId2" Type="http://schemas.openxmlformats.org/officeDocument/2006/relationships/hyperlink" Target="file:///Unit%20Lesson%205-%20Art.doc" TargetMode="External"/><Relationship Id="rId3" Type="http://schemas.openxmlformats.org/officeDocument/2006/relationships/hyperlink" Target="http://vimeo.com/9833348" TargetMode="External"/><Relationship Id="rId4" Type="http://schemas.openxmlformats.org/officeDocument/2006/relationships/audio" Target="../media/train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andiceed7841.blogspot.com/" TargetMode="External"/><Relationship Id="rId2" Type="http://schemas.openxmlformats.org/officeDocument/2006/relationships/hyperlink" Target="http://candiceed7841.wikispace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nit%20Lesson%201-%20Literacy.doc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audio" Target="../media/train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nit%20Lesson%202-%20Social%20Studies.doc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atch.thirteen.org/video/1469558140/" TargetMode="External"/><Relationship Id="rId4" Type="http://schemas.openxmlformats.org/officeDocument/2006/relationships/audio" Target="../media/train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nit%20Lesson%203-%20Mathematics.doc" TargetMode="External"/><Relationship Id="rId2" Type="http://schemas.openxmlformats.org/officeDocument/2006/relationships/audio" Target="../media/tra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85800" y="4572000"/>
            <a:ext cx="9070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6320" bIns="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Thematic Un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sented by Candice Fl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WordArt 2"/>
          <p:cNvSpPr txBox="1"/>
          <p:nvPr/>
        </p:nvSpPr>
        <p:spPr>
          <a:xfrm>
            <a:off x="2852640" y="1069920"/>
            <a:ext cx="4691160" cy="34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52735" dir="2700000" blurRad="0" rotWithShape="0">
                    <a:srgbClr val="000000"/>
                  </a:outerShdw>
                </a:effectLst>
                <a:latin typeface="Arial Black"/>
              </a:rPr>
              <a:t>TRAINS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52735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971800" y="5967360"/>
            <a:ext cx="4430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Motivation: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ll About Trains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3" name="trai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503280" y="336600"/>
            <a:ext cx="906948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544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b2394"/>
                </a:solidFill>
                <a:latin typeface="Times New Roman"/>
                <a:ea typeface="Arial Unicode MS"/>
              </a:rPr>
              <a:t>Mathematics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503280" y="1371600"/>
            <a:ext cx="9069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1: Group discussion of different shapes in trains, using pictures from our books about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2: Create collages of trains using different cut-out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6b0094"/>
                </a:solidFill>
                <a:latin typeface="Times New Roman"/>
                <a:ea typeface="Arial Unicode MS"/>
              </a:rPr>
              <a:t>Ms. Flores' Train Coll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96960" y="4160880"/>
            <a:ext cx="43434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5192640" y="416088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03280" y="380880"/>
            <a:ext cx="9069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544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b0094"/>
                </a:solidFill>
                <a:latin typeface="Times New Roman"/>
                <a:ea typeface="Arial Unicode MS"/>
              </a:rPr>
              <a:t>The Shapes We Used for our Tra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57200" y="1371600"/>
            <a:ext cx="9115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5520" bIns="0" anchor="t">
            <a:noAutofit/>
          </a:bodyPr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2040" y="1265400"/>
          <a:ext cx="9252000" cy="6140160"/>
        </p:xfrm>
        <a:graphic>
          <a:graphicData uri="http://schemas.openxmlformats.org/drawingml/2006/table">
            <a:tbl>
              <a:tblPr/>
              <a:tblGrid>
                <a:gridCol w="2081160"/>
                <a:gridCol w="2338560"/>
                <a:gridCol w="2246400"/>
                <a:gridCol w="2585880"/>
              </a:tblGrid>
              <a:tr h="2104560">
                <a:tc>
                  <a:txBody>
                    <a:bodyPr lIns="90000" rIns="90000" tIns="669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6b2394"/>
                          </a:solidFill>
                          <a:latin typeface="Arial"/>
                        </a:rPr>
                        <a:t>Box Ca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669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6b2394"/>
                          </a:solidFill>
                          <a:latin typeface="Arial"/>
                        </a:rPr>
                        <a:t>Tank Ca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6696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6b2394"/>
                          </a:solidFill>
                          <a:latin typeface="Arial"/>
                        </a:rPr>
                        <a:t>Passeng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6b2394"/>
                          </a:solidFill>
                          <a:latin typeface="Arial"/>
                        </a:rPr>
                        <a:t>Ca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6b2394"/>
                          </a:solidFill>
                          <a:latin typeface="Arial"/>
                        </a:rPr>
                        <a:t>Locomo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035600">
                <a:tc>
                  <a:txBody>
                    <a:bodyPr lIns="90000" rIns="90000" tIns="576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tang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 Cir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76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tang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 Cir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Rectang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76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tang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 Cir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576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ag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ombu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tang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uar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34" descr=""/>
          <p:cNvPicPr/>
          <p:nvPr/>
        </p:nvPicPr>
        <p:blipFill>
          <a:blip r:embed="rId1"/>
          <a:stretch/>
        </p:blipFill>
        <p:spPr>
          <a:xfrm>
            <a:off x="7478640" y="2103480"/>
            <a:ext cx="1893960" cy="99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5" descr=""/>
          <p:cNvPicPr/>
          <p:nvPr/>
        </p:nvPicPr>
        <p:blipFill>
          <a:blip r:embed="rId2"/>
          <a:stretch/>
        </p:blipFill>
        <p:spPr>
          <a:xfrm>
            <a:off x="5040360" y="2255760"/>
            <a:ext cx="1828800" cy="87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6" descr=""/>
          <p:cNvPicPr/>
          <p:nvPr/>
        </p:nvPicPr>
        <p:blipFill>
          <a:blip r:embed="rId3"/>
          <a:stretch/>
        </p:blipFill>
        <p:spPr>
          <a:xfrm>
            <a:off x="2754360" y="210348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7" descr=""/>
          <p:cNvPicPr/>
          <p:nvPr/>
        </p:nvPicPr>
        <p:blipFill>
          <a:blip r:embed="rId4"/>
          <a:stretch/>
        </p:blipFill>
        <p:spPr>
          <a:xfrm>
            <a:off x="620640" y="210348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8"/>
          <p:cNvSpPr/>
          <p:nvPr/>
        </p:nvSpPr>
        <p:spPr>
          <a:xfrm>
            <a:off x="1077840" y="4313160"/>
            <a:ext cx="609840" cy="2286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9"/>
          <p:cNvSpPr/>
          <p:nvPr/>
        </p:nvSpPr>
        <p:spPr>
          <a:xfrm>
            <a:off x="3287880" y="3932280"/>
            <a:ext cx="609480" cy="2286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0"/>
          <p:cNvSpPr/>
          <p:nvPr/>
        </p:nvSpPr>
        <p:spPr>
          <a:xfrm>
            <a:off x="5268960" y="4313160"/>
            <a:ext cx="609480" cy="2286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1"/>
          <p:cNvSpPr/>
          <p:nvPr/>
        </p:nvSpPr>
        <p:spPr>
          <a:xfrm>
            <a:off x="8850240" y="5151600"/>
            <a:ext cx="609840" cy="2286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42"/>
          <p:cNvSpPr/>
          <p:nvPr/>
        </p:nvSpPr>
        <p:spPr>
          <a:xfrm>
            <a:off x="1001880" y="4923000"/>
            <a:ext cx="599760" cy="676080"/>
          </a:xfrm>
          <a:custGeom>
            <a:avLst/>
            <a:gdLst>
              <a:gd name="textAreaLeft" fmla="*/ 87840 w 599760"/>
              <a:gd name="textAreaRight" fmla="*/ 511920 w 599760"/>
              <a:gd name="textAreaTop" fmla="*/ 99000 h 676080"/>
              <a:gd name="textAreaBottom" fmla="*/ 577080 h 676080"/>
            </a:gdLst>
            <a:ahLst/>
            <a:rect l="textAreaLeft" t="textAreaTop" r="textAreaRight" b="textAreaBottom"/>
            <a:pathLst>
              <a:path w="21600" h="21600">
                <a:moveTo>
                  <a:pt x="239" y="13062"/>
                </a:moveTo>
                <a:cubicBezTo>
                  <a:pt x="1306" y="18042"/>
                  <a:pt x="5707" y="21600"/>
                  <a:pt x="10800" y="21600"/>
                </a:cubicBezTo>
                <a:cubicBezTo>
                  <a:pt x="15787" y="21599"/>
                  <a:pt x="20126" y="18184"/>
                  <a:pt x="21297" y="13336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43"/>
          <p:cNvSpPr/>
          <p:nvPr/>
        </p:nvSpPr>
        <p:spPr>
          <a:xfrm rot="16200000">
            <a:off x="3054240" y="4622400"/>
            <a:ext cx="533160" cy="676080"/>
          </a:xfrm>
          <a:custGeom>
            <a:avLst/>
            <a:gdLst>
              <a:gd name="textAreaLeft" fmla="*/ 78120 w 533160"/>
              <a:gd name="textAreaRight" fmla="*/ 455040 w 533160"/>
              <a:gd name="textAreaTop" fmla="*/ 99000 h 676080"/>
              <a:gd name="textAreaBottom" fmla="*/ 577080 h 676080"/>
            </a:gdLst>
            <a:ahLst/>
            <a:rect l="textAreaLeft" t="textAreaTop" r="textAreaRight" b="textAreaBottom"/>
            <a:pathLst>
              <a:path w="21600" h="21600">
                <a:moveTo>
                  <a:pt x="239" y="13062"/>
                </a:moveTo>
                <a:cubicBezTo>
                  <a:pt x="1306" y="18042"/>
                  <a:pt x="5707" y="21600"/>
                  <a:pt x="10800" y="21600"/>
                </a:cubicBezTo>
                <a:cubicBezTo>
                  <a:pt x="15787" y="21599"/>
                  <a:pt x="20126" y="18184"/>
                  <a:pt x="21297" y="13336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44"/>
          <p:cNvSpPr/>
          <p:nvPr/>
        </p:nvSpPr>
        <p:spPr>
          <a:xfrm rot="16200000">
            <a:off x="6373800" y="5113080"/>
            <a:ext cx="599760" cy="676440"/>
          </a:xfrm>
          <a:custGeom>
            <a:avLst/>
            <a:gdLst>
              <a:gd name="textAreaLeft" fmla="*/ 87840 w 599760"/>
              <a:gd name="textAreaRight" fmla="*/ 511920 w 599760"/>
              <a:gd name="textAreaTop" fmla="*/ 99000 h 676440"/>
              <a:gd name="textAreaBottom" fmla="*/ 577440 h 676440"/>
            </a:gdLst>
            <a:ahLst/>
            <a:rect l="textAreaLeft" t="textAreaTop" r="textAreaRight" b="textAreaBottom"/>
            <a:pathLst>
              <a:path w="21600" h="21600">
                <a:moveTo>
                  <a:pt x="239" y="13062"/>
                </a:moveTo>
                <a:cubicBezTo>
                  <a:pt x="1306" y="18042"/>
                  <a:pt x="5707" y="21600"/>
                  <a:pt x="10800" y="21600"/>
                </a:cubicBezTo>
                <a:cubicBezTo>
                  <a:pt x="15787" y="21599"/>
                  <a:pt x="20126" y="18184"/>
                  <a:pt x="21297" y="13336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5" descr=""/>
          <p:cNvPicPr/>
          <p:nvPr/>
        </p:nvPicPr>
        <p:blipFill>
          <a:blip r:embed="rId5"/>
          <a:stretch/>
        </p:blipFill>
        <p:spPr>
          <a:xfrm>
            <a:off x="1839960" y="583740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6" descr=""/>
          <p:cNvPicPr/>
          <p:nvPr/>
        </p:nvPicPr>
        <p:blipFill>
          <a:blip r:embed="rId6"/>
          <a:stretch/>
        </p:blipFill>
        <p:spPr>
          <a:xfrm>
            <a:off x="3973680" y="6370560"/>
            <a:ext cx="423720" cy="42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7" descr=""/>
          <p:cNvPicPr/>
          <p:nvPr/>
        </p:nvPicPr>
        <p:blipFill>
          <a:blip r:embed="rId7"/>
          <a:stretch/>
        </p:blipFill>
        <p:spPr>
          <a:xfrm>
            <a:off x="8469360" y="6141960"/>
            <a:ext cx="500040" cy="500040"/>
          </a:xfrm>
          <a:prstGeom prst="rect">
            <a:avLst/>
          </a:prstGeom>
          <a:ln w="0">
            <a:noFill/>
          </a:ln>
        </p:spPr>
      </p:pic>
      <p:sp>
        <p:nvSpPr>
          <p:cNvPr id="117" name="Oval 48"/>
          <p:cNvSpPr/>
          <p:nvPr/>
        </p:nvSpPr>
        <p:spPr>
          <a:xfrm>
            <a:off x="8317080" y="553248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49"/>
          <p:cNvSpPr/>
          <p:nvPr/>
        </p:nvSpPr>
        <p:spPr>
          <a:xfrm>
            <a:off x="6031080" y="4770360"/>
            <a:ext cx="380880" cy="381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50"/>
          <p:cNvSpPr/>
          <p:nvPr/>
        </p:nvSpPr>
        <p:spPr>
          <a:xfrm>
            <a:off x="1382760" y="667548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1"/>
          <p:cNvSpPr/>
          <p:nvPr/>
        </p:nvSpPr>
        <p:spPr>
          <a:xfrm>
            <a:off x="8697960" y="4160880"/>
            <a:ext cx="380880" cy="380880"/>
          </a:xfrm>
          <a:prstGeom prst="octagon">
            <a:avLst>
              <a:gd name="adj" fmla="val 231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52"/>
          <p:cNvSpPr/>
          <p:nvPr/>
        </p:nvSpPr>
        <p:spPr>
          <a:xfrm>
            <a:off x="3211560" y="5837400"/>
            <a:ext cx="609480" cy="30456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53"/>
          <p:cNvSpPr/>
          <p:nvPr/>
        </p:nvSpPr>
        <p:spPr>
          <a:xfrm rot="10800000">
            <a:off x="9002520" y="4617720"/>
            <a:ext cx="609480" cy="228600"/>
          </a:xfrm>
          <a:prstGeom prst="flowChartManualOperati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54">
            <a:hlinkClick r:id="rId8" action="ppaction://hlinksldjump"/>
          </p:cNvPr>
          <p:cNvSpPr/>
          <p:nvPr/>
        </p:nvSpPr>
        <p:spPr>
          <a:xfrm>
            <a:off x="9155160" y="65556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7493"/>
                </a:moveTo>
                <a:lnTo>
                  <a:pt x="9451" y="7493"/>
                </a:lnTo>
                <a:lnTo>
                  <a:pt x="9451" y="12828"/>
                </a:lnTo>
                <a:cubicBezTo>
                  <a:pt x="9451" y="13751"/>
                  <a:pt x="10252" y="14482"/>
                  <a:pt x="11287" y="14482"/>
                </a:cubicBezTo>
                <a:lnTo>
                  <a:pt x="12950" y="14482"/>
                </a:lnTo>
                <a:cubicBezTo>
                  <a:pt x="13986" y="14482"/>
                  <a:pt x="14786" y="13751"/>
                  <a:pt x="14786" y="12828"/>
                </a:cubicBezTo>
                <a:lnTo>
                  <a:pt x="14786" y="7493"/>
                </a:lnTo>
                <a:lnTo>
                  <a:pt x="12950" y="7493"/>
                </a:lnTo>
                <a:lnTo>
                  <a:pt x="16457" y="3985"/>
                </a:lnTo>
                <a:lnTo>
                  <a:pt x="20130" y="7493"/>
                </a:lnTo>
                <a:lnTo>
                  <a:pt x="18294" y="7493"/>
                </a:lnTo>
                <a:lnTo>
                  <a:pt x="18294" y="12828"/>
                </a:lnTo>
                <a:cubicBezTo>
                  <a:pt x="18294" y="15596"/>
                  <a:pt x="15718" y="18155"/>
                  <a:pt x="12950" y="18155"/>
                </a:cubicBezTo>
                <a:lnTo>
                  <a:pt x="11287" y="18155"/>
                </a:lnTo>
                <a:cubicBezTo>
                  <a:pt x="8520" y="18155"/>
                  <a:pt x="5943" y="15596"/>
                  <a:pt x="5943" y="12828"/>
                </a:cubicBez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211480"/>
            <a:ext cx="906948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544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Lesson 4- </a:t>
            </a:r>
            <a:r>
              <a:rPr b="0" lang="en-US" sz="4400" spc="-1" strike="noStrike">
                <a:solidFill>
                  <a:srgbClr val="ff950e"/>
                </a:solidFill>
                <a:latin typeface="Times New Roman"/>
                <a:ea typeface="Arial Unicode MS"/>
              </a:rPr>
              <a:t>Science: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Times New Roman"/>
                <a:ea typeface="Arial Unicode MS"/>
              </a:rPr>
              <a:t>Aim: 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How do trains move?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Read-Aloud and Interactive Eng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135240" y="5075280"/>
            <a:ext cx="3657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otivation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oving Train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3" name="trai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03280" y="336600"/>
            <a:ext cx="90615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imes New Roman"/>
                <a:ea typeface="Arial Unicode MS"/>
              </a:rPr>
              <a:t>Science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544680" y="1265400"/>
            <a:ext cx="9061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1: Go back to our book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ins on the Tr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2: Use our bodies to make kid-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3: Talk about how we moved our kid-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745080" y="3932280"/>
            <a:ext cx="3360600" cy="319860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503280" y="336600"/>
            <a:ext cx="90615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imes New Roman"/>
                <a:ea typeface="Arial Unicode MS"/>
              </a:rPr>
              <a:t>Our KWL Char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7/28/2010)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16080" y="1265400"/>
          <a:ext cx="9299520" cy="5715000"/>
        </p:xfrm>
        <a:graphic>
          <a:graphicData uri="http://schemas.openxmlformats.org/drawingml/2006/table">
            <a:tbl>
              <a:tblPr/>
              <a:tblGrid>
                <a:gridCol w="2866680"/>
                <a:gridCol w="3016440"/>
                <a:gridCol w="3416400"/>
              </a:tblGrid>
              <a:tr h="1704960"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Lucida Sans Unicode"/>
                        </a:rPr>
                        <a:t>KNO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Lucida Sans Unicode"/>
                        </a:rPr>
                        <a:t>WONDE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've </a:t>
                      </a:r>
                      <a:r>
                        <a:rPr b="0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Lucida Sans Unicode"/>
                        </a:rPr>
                        <a:t>LEARNE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401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wheel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caboos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ride 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ck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can trave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under the groun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ca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indow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es th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ngine go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invente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made th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ubway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at are som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hings people do 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a train?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 trains move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There are differen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types of cars on train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for sleeping and eating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rains work becaus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y have locomotive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and an engin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 locomotive is a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 front and it pull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 rail ca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131" name="Picture 26" descr=""/>
          <p:cNvPicPr/>
          <p:nvPr/>
        </p:nvPicPr>
        <p:blipFill>
          <a:blip r:embed="rId1"/>
          <a:stretch/>
        </p:blipFill>
        <p:spPr>
          <a:xfrm>
            <a:off x="1459080" y="21798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"/>
          <p:cNvPicPr/>
          <p:nvPr/>
        </p:nvPicPr>
        <p:blipFill>
          <a:blip r:embed="rId2"/>
          <a:stretch/>
        </p:blipFill>
        <p:spPr>
          <a:xfrm>
            <a:off x="4278240" y="21798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8" descr=""/>
          <p:cNvPicPr/>
          <p:nvPr/>
        </p:nvPicPr>
        <p:blipFill>
          <a:blip r:embed="rId3"/>
          <a:stretch/>
        </p:blipFill>
        <p:spPr>
          <a:xfrm>
            <a:off x="7478640" y="2179800"/>
            <a:ext cx="90324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29">
            <a:hlinkClick r:id="rId4" action="ppaction://hlinksldjump"/>
          </p:cNvPr>
          <p:cNvSpPr/>
          <p:nvPr/>
        </p:nvSpPr>
        <p:spPr>
          <a:xfrm>
            <a:off x="8393040" y="65556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773280" y="2103480"/>
            <a:ext cx="856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Lesson 5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- </a:t>
            </a:r>
            <a:r>
              <a:rPr b="0" lang="en-US" sz="4400" spc="-1" strike="noStrike">
                <a:solidFill>
                  <a:srgbClr val="5e11a6"/>
                </a:solidFill>
                <a:latin typeface="Times New Roman"/>
                <a:ea typeface="Arial Unicode MS"/>
              </a:rPr>
              <a:t>Art: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Times New Roman"/>
                <a:ea typeface="Arial Unicode MS"/>
              </a:rPr>
              <a:t>Aim: 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Making 3-D Trains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Hands-On Cre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2754360" y="4923000"/>
            <a:ext cx="46483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5e11a6"/>
                </a:solidFill>
                <a:latin typeface="Arial"/>
              </a:rPr>
              <a:t>Motiv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Making of Pop-Up Trains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4" name="train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503280" y="336600"/>
            <a:ext cx="90615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1a6"/>
                </a:solidFill>
                <a:latin typeface="Times New Roman"/>
                <a:ea typeface="Arial Unicode MS"/>
              </a:rPr>
              <a:t>Art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503280" y="1341360"/>
            <a:ext cx="90615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1: Go back to our book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ins on the Tr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2: Use our bodies to make kid-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3: Finish our KWL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 algn="ctr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5e11a6"/>
                </a:solidFill>
                <a:latin typeface="Times New Roman"/>
                <a:ea typeface="Arial Unicode MS"/>
              </a:rPr>
              <a:t>Ms. Flores’ 3-D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tabLst>
                <a:tab algn="l" pos="0"/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468360" y="477036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3516480" y="477036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tretch/>
        </p:blipFill>
        <p:spPr>
          <a:xfrm>
            <a:off x="6564240" y="4770360"/>
            <a:ext cx="3036960" cy="2286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503280" y="336600"/>
            <a:ext cx="90615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5e11a6"/>
                </a:solidFill>
                <a:latin typeface="Times New Roman"/>
                <a:ea typeface="Arial Unicode MS"/>
              </a:rPr>
              <a:t>Our KWL Chart</a:t>
            </a:r>
            <a:r>
              <a:rPr b="0" lang="en-US" sz="4400" spc="-1" strike="noStrike">
                <a:solidFill>
                  <a:srgbClr val="0047ff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7/29/2010)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112760"/>
          <a:ext cx="9147240" cy="5865840"/>
        </p:xfrm>
        <a:graphic>
          <a:graphicData uri="http://schemas.openxmlformats.org/drawingml/2006/table">
            <a:tbl>
              <a:tblPr/>
              <a:tblGrid>
                <a:gridCol w="2747880"/>
                <a:gridCol w="3038400"/>
                <a:gridCol w="3360960"/>
              </a:tblGrid>
              <a:tr h="1749600"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5e11a6"/>
                          </a:solidFill>
                          <a:latin typeface="Times New Roman"/>
                          <a:ea typeface="Lucida Sans Unicode"/>
                        </a:rPr>
                        <a:t>KNOW</a:t>
                      </a:r>
                      <a:r>
                        <a:rPr b="0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5e11a6"/>
                          </a:solidFill>
                          <a:latin typeface="Times New Roman"/>
                          <a:ea typeface="Lucida Sans Unicode"/>
                        </a:rPr>
                        <a:t>WONDER</a:t>
                      </a:r>
                      <a:r>
                        <a:rPr b="0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've </a:t>
                      </a:r>
                      <a:r>
                        <a:rPr b="0" lang="en-US" sz="2400" spc="-1" strike="noStrike">
                          <a:solidFill>
                            <a:srgbClr val="5e11a6"/>
                          </a:solidFill>
                          <a:latin typeface="Times New Roman"/>
                          <a:ea typeface="Lucida Sans Unicode"/>
                        </a:rPr>
                        <a:t>LEARNED</a:t>
                      </a:r>
                      <a:r>
                        <a:rPr b="0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411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wheel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caboos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ride 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ck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can trave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under the groun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ca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indow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es the engin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go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invente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made th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ubway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at are som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hings people do 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a train?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 trains move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There are differen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types of cars on train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for sleeping and eating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rains work becaus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y have locomotive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and an engin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 locomotive is a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 front and it pull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the rail ca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ffc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280099"/>
                          </a:solidFill>
                          <a:latin typeface="Comic Sans MS"/>
                          <a:ea typeface="Lucida Sans Unicode"/>
                        </a:rPr>
                        <a:t>Different train car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280099"/>
                          </a:solidFill>
                          <a:latin typeface="Comic Sans MS"/>
                          <a:ea typeface="Lucida Sans Unicode"/>
                        </a:rPr>
                        <a:t>hold different material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144" name="Picture 26" descr=""/>
          <p:cNvPicPr/>
          <p:nvPr/>
        </p:nvPicPr>
        <p:blipFill>
          <a:blip r:embed="rId1"/>
          <a:stretch/>
        </p:blipFill>
        <p:spPr>
          <a:xfrm>
            <a:off x="1459080" y="202716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7" descr=""/>
          <p:cNvPicPr/>
          <p:nvPr/>
        </p:nvPicPr>
        <p:blipFill>
          <a:blip r:embed="rId2"/>
          <a:stretch/>
        </p:blipFill>
        <p:spPr>
          <a:xfrm>
            <a:off x="4278240" y="21034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8" descr=""/>
          <p:cNvPicPr/>
          <p:nvPr/>
        </p:nvPicPr>
        <p:blipFill>
          <a:blip r:embed="rId3"/>
          <a:stretch/>
        </p:blipFill>
        <p:spPr>
          <a:xfrm>
            <a:off x="7478640" y="2027160"/>
            <a:ext cx="90324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29">
            <a:hlinkClick r:id="rId4" action="ppaction://hlinksldjump"/>
          </p:cNvPr>
          <p:cNvSpPr/>
          <p:nvPr/>
        </p:nvSpPr>
        <p:spPr>
          <a:xfrm>
            <a:off x="8393040" y="579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55e00"/>
                </a:solidFill>
                <a:latin typeface="Times New Roman"/>
              </a:rPr>
              <a:t>Resources</a:t>
            </a:r>
            <a:br>
              <a:rPr sz="4400"/>
            </a:br>
            <a:r>
              <a:rPr b="0" lang="en-US" sz="3600" spc="-1" strike="noStrike">
                <a:solidFill>
                  <a:srgbClr val="355e00"/>
                </a:solidFill>
                <a:latin typeface="Times New Roman"/>
              </a:rPr>
              <a:t>(if you missed something...)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116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lass B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ass Wi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in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4760" y="1768320"/>
            <a:ext cx="44211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r Teachers/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0328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224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Table of Conten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058760" y="1828800"/>
            <a:ext cx="83138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8240" bIns="0" anchor="t">
            <a:noAutofit/>
          </a:bodyPr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Lesson 1</a:t>
            </a:r>
            <a:r>
              <a:rPr b="0" lang="en-US" sz="3200" spc="-1" strike="noStrike">
                <a:solidFill>
                  <a:srgbClr val="b80047"/>
                </a:solidFill>
                <a:latin typeface="Times New Roman"/>
                <a:ea typeface="Arial Unicode MS"/>
              </a:rPr>
              <a:t>; Liter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 What are some of the different types of tra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Lesson 2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; Social Stud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 How do trains affect our li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Lesson 3</a:t>
            </a:r>
            <a:r>
              <a:rPr b="0" lang="en-US" sz="3200" spc="-1" strike="noStrike">
                <a:solidFill>
                  <a:srgbClr val="6b2394"/>
                </a:solidFill>
                <a:latin typeface="Times New Roman"/>
                <a:ea typeface="Arial Unicode MS"/>
              </a:rPr>
              <a:t>; Mathemat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 What are some of the shapes that make tra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 action="ppaction://hlinksldjump"/>
              </a:rPr>
              <a:t>Lesson 4</a:t>
            </a:r>
            <a:r>
              <a:rPr b="0" lang="en-US" sz="3200" spc="-1" strike="noStrike">
                <a:solidFill>
                  <a:srgbClr val="ff950e"/>
                </a:solidFill>
                <a:latin typeface="Times New Roman"/>
                <a:ea typeface="Arial Unicode MS"/>
              </a:rPr>
              <a:t>; Sci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 How do trains mo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534960"/>
                <a:tab algn="l" pos="992160"/>
                <a:tab algn="l" pos="1449360"/>
                <a:tab algn="l" pos="1906560"/>
                <a:tab algn="l" pos="2363760"/>
                <a:tab algn="l" pos="2820960"/>
                <a:tab algn="l" pos="3278160"/>
                <a:tab algn="l" pos="3735360"/>
                <a:tab algn="l" pos="4192560"/>
                <a:tab algn="l" pos="4649760"/>
                <a:tab algn="l" pos="5106960"/>
                <a:tab algn="l" pos="5564160"/>
                <a:tab algn="l" pos="6021360"/>
                <a:tab algn="l" pos="6478560"/>
                <a:tab algn="l" pos="6935760"/>
                <a:tab algn="l" pos="7392960"/>
                <a:tab algn="l" pos="7850160"/>
                <a:tab algn="l" pos="8307360"/>
                <a:tab algn="l" pos="8764560"/>
                <a:tab algn="l" pos="9221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5" action="ppaction://hlinksldjump"/>
              </a:rPr>
              <a:t>Lesson 5</a:t>
            </a:r>
            <a:r>
              <a:rPr b="0" lang="en-US" sz="3200" spc="-1" strike="noStrike">
                <a:solidFill>
                  <a:srgbClr val="5e11a6"/>
                </a:solidFill>
                <a:latin typeface="Times New Roman"/>
                <a:ea typeface="Arial Unicode MS"/>
              </a:rPr>
              <a:t>; 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 Making 3D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39.9600005149841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14400" y="2057400"/>
            <a:ext cx="8674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316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Lesson 1- </a:t>
            </a:r>
            <a:r>
              <a:rPr b="0" lang="en-US" sz="4400" spc="-1" strike="noStrike">
                <a:solidFill>
                  <a:srgbClr val="b80047"/>
                </a:solidFill>
                <a:latin typeface="Times New Roman"/>
                <a:ea typeface="Arial Unicode MS"/>
              </a:rPr>
              <a:t>Literacy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Aim: What are some of the different types of Trains?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Read-Aloud and KWL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429000" y="5318280"/>
            <a:ext cx="2824200" cy="1539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6434280" y="5257800"/>
            <a:ext cx="293832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4"/>
          <a:stretch/>
        </p:blipFill>
        <p:spPr>
          <a:xfrm>
            <a:off x="457200" y="5257800"/>
            <a:ext cx="274320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7315200" y="685800"/>
            <a:ext cx="2286000" cy="1498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6"/>
          <a:stretch/>
        </p:blipFill>
        <p:spPr>
          <a:xfrm>
            <a:off x="457200" y="685800"/>
            <a:ext cx="25146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7" name="trai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316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80047"/>
                </a:solidFill>
                <a:latin typeface="Times New Roman"/>
                <a:ea typeface="Arial Unicode MS"/>
              </a:rPr>
              <a:t>Literacy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1371600"/>
            <a:ext cx="9070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2057400" cy="2095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3886200" y="457200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457200" y="1371600"/>
            <a:ext cx="90709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566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1: Rea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reight Tra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by Donald Cr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2280" indent="-317520">
              <a:lnSpc>
                <a:spcPct val="90000"/>
              </a:lnSpc>
              <a:spcAft>
                <a:spcPts val="1426"/>
              </a:spcAft>
              <a:buClr>
                <a:srgbClr val="000080"/>
              </a:buClr>
              <a:buFont typeface="Wingdings" charset="2"/>
              <a:buChar char=""/>
              <a:tabLst>
                <a:tab algn="l" pos="422280"/>
                <a:tab algn="l" pos="879480"/>
                <a:tab algn="l" pos="1336680"/>
                <a:tab algn="l" pos="1793880"/>
                <a:tab algn="l" pos="2251080"/>
                <a:tab algn="l" pos="2708280"/>
                <a:tab algn="l" pos="3165480"/>
                <a:tab algn="l" pos="3622680"/>
                <a:tab algn="l" pos="4079880"/>
                <a:tab algn="l" pos="4537080"/>
                <a:tab algn="l" pos="4994280"/>
                <a:tab algn="l" pos="5451480"/>
                <a:tab algn="l" pos="5908680"/>
                <a:tab algn="l" pos="6365880"/>
                <a:tab algn="l" pos="6823080"/>
                <a:tab algn="l" pos="7280280"/>
                <a:tab algn="l" pos="7737480"/>
                <a:tab algn="l" pos="8194680"/>
                <a:tab algn="l" pos="8651880"/>
                <a:tab algn="l" pos="9109080"/>
                <a:tab algn="l" pos="9566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2: Start ou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W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Chart on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6858000" y="4572000"/>
            <a:ext cx="2085840" cy="20574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828800" y="2971800"/>
            <a:ext cx="2971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240" bIns="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57200" y="3429000"/>
            <a:ext cx="25146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b80047"/>
                </a:solidFill>
                <a:latin typeface="Times New Roman"/>
              </a:rPr>
              <a:t>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429000" y="3548160"/>
            <a:ext cx="27432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b80047"/>
                </a:solidFill>
                <a:latin typeface="Times New Roman"/>
              </a:rPr>
              <a:t>WO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6629400" y="3122640"/>
            <a:ext cx="2971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240" bIns="45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you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b80047"/>
                </a:solidFill>
                <a:latin typeface="Times New Roman"/>
              </a:rPr>
              <a:t>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rai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503280" y="336600"/>
            <a:ext cx="9070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316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b80047"/>
                </a:solidFill>
                <a:latin typeface="Times New Roman"/>
                <a:ea typeface="Arial Unicode MS"/>
              </a:rPr>
              <a:t>Our KWL Cha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7/25/20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265400"/>
          <a:ext cx="9148680" cy="6019560"/>
        </p:xfrm>
        <a:graphic>
          <a:graphicData uri="http://schemas.openxmlformats.org/drawingml/2006/table">
            <a:tbl>
              <a:tblPr/>
              <a:tblGrid>
                <a:gridCol w="2604960"/>
                <a:gridCol w="3278160"/>
                <a:gridCol w="3265560"/>
              </a:tblGrid>
              <a:tr h="2199960"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b80047"/>
                          </a:solidFill>
                          <a:latin typeface="Times New Roman"/>
                          <a:ea typeface="Lucida Sans Unicode"/>
                        </a:rPr>
                        <a:t>KNO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b80047"/>
                          </a:solidFill>
                          <a:latin typeface="Times New Roman"/>
                          <a:ea typeface="Lucida Sans Unicode"/>
                        </a:rPr>
                        <a:t>WOND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've </a:t>
                      </a:r>
                      <a:r>
                        <a:rPr b="0" lang="en-US" sz="2400" spc="-1" strike="noStrike">
                          <a:solidFill>
                            <a:srgbClr val="b80047"/>
                          </a:solidFill>
                          <a:latin typeface="Times New Roman"/>
                          <a:ea typeface="Lucida Sans Unicode"/>
                        </a:rPr>
                        <a:t>LEARN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381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wheel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caboos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ride 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ck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can 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under the grou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car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indow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es the engine go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inven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made th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ubway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at are so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hings people do 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a train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 trains mov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26" descr=""/>
          <p:cNvPicPr/>
          <p:nvPr/>
        </p:nvPicPr>
        <p:blipFill>
          <a:blip r:embed="rId1"/>
          <a:stretch/>
        </p:blipFill>
        <p:spPr>
          <a:xfrm>
            <a:off x="1154160" y="2103480"/>
            <a:ext cx="914400" cy="768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7" descr=""/>
          <p:cNvPicPr/>
          <p:nvPr/>
        </p:nvPicPr>
        <p:blipFill>
          <a:blip r:embed="rId2"/>
          <a:stretch/>
        </p:blipFill>
        <p:spPr>
          <a:xfrm>
            <a:off x="4125960" y="2027160"/>
            <a:ext cx="914400" cy="822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8" descr=""/>
          <p:cNvPicPr/>
          <p:nvPr/>
        </p:nvPicPr>
        <p:blipFill>
          <a:blip r:embed="rId3"/>
          <a:stretch/>
        </p:blipFill>
        <p:spPr>
          <a:xfrm>
            <a:off x="7326360" y="2103480"/>
            <a:ext cx="941400" cy="8413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29">
            <a:hlinkClick r:id="rId4" action="ppaction://hlinksldjump"/>
          </p:cNvPr>
          <p:cNvSpPr/>
          <p:nvPr/>
        </p:nvSpPr>
        <p:spPr>
          <a:xfrm>
            <a:off x="8697960" y="503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68360" y="1646280"/>
            <a:ext cx="907092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316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Lesson 2- 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Social Studies: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Times New Roman"/>
                <a:ea typeface="Arial Unicode MS"/>
              </a:rPr>
              <a:t>Aim: 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How do trains affect our lives?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Read-Aloud and Dramatic Pl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2068560" y="3855960"/>
            <a:ext cx="2286000" cy="2819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420880" y="1767960"/>
            <a:ext cx="41418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Backyard Trains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tra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503280" y="336600"/>
            <a:ext cx="90694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544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Social Studies Les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7200" y="1143000"/>
            <a:ext cx="911556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0480" bIns="0" anchor="t">
            <a:noAutofit/>
          </a:bodyPr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1: Read some pages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ins on the Tr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by Bobbie Kalman, and talk about trains in our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76440" indent="-67644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7644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vity 2: Role play in stations of how trains affect our l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7072200" y="3583080"/>
            <a:ext cx="2459160" cy="349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4114800" y="3429000"/>
            <a:ext cx="2743200" cy="349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593640" y="4051440"/>
            <a:ext cx="3292560" cy="28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36600"/>
            <a:ext cx="90709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316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Our KWL Chart</a:t>
            </a:r>
            <a:r>
              <a:rPr b="0" lang="en-US" sz="4400" spc="-1" strike="noStrike">
                <a:solidFill>
                  <a:srgbClr val="b80047"/>
                </a:solidFill>
                <a:latin typeface="Times New Roman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7/26/20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112760"/>
          <a:ext cx="9147240" cy="6235920"/>
        </p:xfrm>
        <a:graphic>
          <a:graphicData uri="http://schemas.openxmlformats.org/drawingml/2006/table">
            <a:tbl>
              <a:tblPr/>
              <a:tblGrid>
                <a:gridCol w="2747880"/>
                <a:gridCol w="3038400"/>
                <a:gridCol w="3360960"/>
              </a:tblGrid>
              <a:tr h="1704960"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KNO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 </a:t>
                      </a: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WOND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9072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What we've </a:t>
                      </a: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Times New Roman"/>
                          <a:ea typeface="Lucida Sans Unicode"/>
                        </a:rPr>
                        <a:t>LEARN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about tra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cc"/>
                    </a:solidFill>
                  </a:tcPr>
                </a:tc>
              </a:tr>
              <a:tr h="455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eel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caboos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ride 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ck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can trave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under the groun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 car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 hav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indow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es the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engine go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invente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rains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o made th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subway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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What are som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things people do 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a train?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Aft>
                          <a:spcPts val="1426"/>
                        </a:spcAft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Lucida Sans Unicode"/>
                        </a:rPr>
                        <a:t>How do trains move?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There are differen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types of cars on trains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b050"/>
                          </a:solidFill>
                          <a:latin typeface="Comic Sans MS"/>
                          <a:ea typeface="Lucida Sans Unicode"/>
                        </a:rPr>
                        <a:t>for sleeping and eating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7000"/>
                        </a:lnSpc>
                        <a:spcAft>
                          <a:spcPts val="1426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91" name="Picture 26" descr=""/>
          <p:cNvPicPr/>
          <p:nvPr/>
        </p:nvPicPr>
        <p:blipFill>
          <a:blip r:embed="rId1"/>
          <a:stretch/>
        </p:blipFill>
        <p:spPr>
          <a:xfrm>
            <a:off x="1459080" y="18748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7" descr=""/>
          <p:cNvPicPr/>
          <p:nvPr/>
        </p:nvPicPr>
        <p:blipFill>
          <a:blip r:embed="rId2"/>
          <a:stretch/>
        </p:blipFill>
        <p:spPr>
          <a:xfrm>
            <a:off x="4278240" y="19512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8" descr=""/>
          <p:cNvPicPr/>
          <p:nvPr/>
        </p:nvPicPr>
        <p:blipFill>
          <a:blip r:embed="rId3"/>
          <a:stretch/>
        </p:blipFill>
        <p:spPr>
          <a:xfrm>
            <a:off x="7478640" y="1951200"/>
            <a:ext cx="903240" cy="6858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29">
            <a:hlinkClick r:id="rId4" action="ppaction://hlinksldjump"/>
          </p:cNvPr>
          <p:cNvSpPr/>
          <p:nvPr/>
        </p:nvSpPr>
        <p:spPr>
          <a:xfrm>
            <a:off x="8774280" y="503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531720" y="2211480"/>
            <a:ext cx="90694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544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Lesson 3- </a:t>
            </a:r>
            <a:r>
              <a:rPr b="0" lang="en-US" sz="4400" spc="-1" strike="noStrike">
                <a:solidFill>
                  <a:srgbClr val="6b2394"/>
                </a:solidFill>
                <a:latin typeface="Times New Roman"/>
                <a:ea typeface="Arial Unicode MS"/>
              </a:rPr>
              <a:t>Mathematics:</a:t>
            </a:r>
            <a:br>
              <a:rPr sz="4400"/>
            </a:br>
            <a:r>
              <a:rPr b="0" lang="en-US" sz="4400" spc="-1" strike="noStrike">
                <a:solidFill>
                  <a:srgbClr val="280099"/>
                </a:solidFill>
                <a:latin typeface="Times New Roman"/>
                <a:ea typeface="Arial Unicode MS"/>
              </a:rPr>
              <a:t>Aim: 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What are some of the different shapes that make trains?</a:t>
            </a:r>
            <a:br>
              <a:rPr sz="4400"/>
            </a:b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Arial Unicode MS"/>
              </a:rPr>
              <a:t>Train Collages with Different Sha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2" name="trai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03:20:26Z</dcterms:created>
  <dc:creator>atikur abdul</dc:creator>
  <dc:description/>
  <dc:language>en-US</dc:language>
  <cp:lastModifiedBy>Brooklyn College</cp:lastModifiedBy>
  <dcterms:modified xsi:type="dcterms:W3CDTF">2010-08-03T21:39:53Z</dcterms:modified>
  <cp:revision>57</cp:revision>
  <dc:subject/>
  <dc:title>A Thematic Unit  Presented by Candice Flores</dc:title>
</cp:coreProperties>
</file>